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0" y="0"/>
            <a:ext cx="6669000" cy="992664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2150">
                <a:moveTo>
                  <a:pt x="5" y="0"/>
                </a:moveTo>
                <a:arcTo wR="5" hR="5" stAng="16200000" swAng="-5400000"/>
                <a:lnTo>
                  <a:pt x="0" y="32145"/>
                </a:lnTo>
                <a:arcTo wR="5" hR="5" stAng="10800000" swAng="-5400000"/>
                <a:lnTo>
                  <a:pt x="21595" y="321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0"/>
            <a:ext cx="289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3777840" y="-360"/>
            <a:ext cx="2884680" cy="490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56480" cy="371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920" rIns="889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29440" cy="44625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0" y="9426600"/>
            <a:ext cx="2890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5"/>
          </p:nvPr>
        </p:nvSpPr>
        <p:spPr>
          <a:xfrm>
            <a:off x="377784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6080" bIns="460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14240"/>
                <a:tab algn="l" pos="1428840"/>
                <a:tab algn="l" pos="2144880"/>
                <a:tab algn="l" pos="28591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14240"/>
                <a:tab algn="l" pos="1428840"/>
                <a:tab algn="l" pos="2144880"/>
                <a:tab algn="l" pos="285912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A6F44-E93A-4AEB-915E-88D2B1B8CC8A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728E1-A014-4535-BA72-73D28BDA34B3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E930F934-8C66-4BD2-962B-7A66E4A09680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3A6EE-53DE-4392-9AA4-28129337BDAE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177C015F-A539-4E08-A479-6B52D254E9E4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FA7C0-3523-4BF8-86AA-01B8EA30498A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4A5A7077-B838-4C8D-A3CB-F2B8C09AB0BE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483D4-488D-48D9-A0BE-2328B77B6840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6FF0AC55-04A4-410E-9F4A-CADFD14ED3C1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71CB2-10F1-4C9B-B457-8386A0261B7F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7E947B9A-C847-44BE-82F1-C48AD7226A24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B2BBA-D0CA-4659-8013-CF455F2F723C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85A4414A-4BD4-4942-BCFA-754027EEBBE8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F40B2-F6EF-4990-9C9C-DFD05CEE795A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FF7DADDB-446F-48CB-9D58-530D97C6568A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2BE64-C6C9-4EA1-878E-895002C40AAC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A7DE3885-F849-44A5-B45B-DD97DA34DFD4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D70D1-5D9E-45BE-B2D0-484DE685622A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47B9C809-FBF0-4073-8D0E-818A32A78819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5A904-14EC-4CBC-BF2F-0FF825C14A6D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962F6438-4BF8-44FC-9E92-FFFADC40A23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3563C-40C1-42FF-9612-A929C5A887FA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3611A143-9229-4DF0-A933-68791D929077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E46D9-2BCC-46B4-BC70-684650F40654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A7F9A517-B5A6-498B-BCEB-005AC4CDB1C0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86296-420D-4307-A967-10A833CD7CB5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59C1B33B-CBD3-430D-9A2B-3CE11F05591E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204FA-9770-4CB4-BC07-BCEEE6F0DF71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09EECFC1-ACE7-463F-AAFE-F2121CEA14C4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45213-D09C-45A2-A292-A30B47BDEB81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DA92C5C2-F421-462E-AB72-1BB9395F832E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1247B-44C0-44D8-B3CE-881184961078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7B7FE0B5-129C-4733-86E1-D479F220EAE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341A4-F500-49FE-8DCB-5119A8D98ECF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4F076B94-2464-4941-87FC-18675C2729B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82453-4D25-4CE1-B556-C95817C63442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5ACB99DE-F4A5-4957-B7A7-BACB12EB30E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49DDDC-DC3B-44F3-BF64-79B1E80A1FAF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0771D035-E3B4-4F65-AB21-EBFFF1D06C9A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68CF6-D9C3-46D0-B9BE-0BC50D600E87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EAD3E9D2-46BA-478C-BC70-0DCDFA1A870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860EF-3E53-4DFF-B00B-3120892F88F0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D302C74C-105E-4F9F-9435-45D1CE86AD9F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A2D9D-4762-4207-8486-84CF847D0EEF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F3D06C51-21A1-4ECF-AFD8-0360A6C66AB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917A7-B080-493C-BA3F-6CE0BBBB1E9A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E18FEA20-0298-4D50-88E9-171DF08B6AE4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CA07A-7E3F-4DF4-B433-BF5F302A0451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663647EA-AEDE-4998-9EF7-7A9621F37604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4DCB3-67FA-4CEE-A865-8D715E159A37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231663BE-F007-4F15-B2F2-805F52E32FBA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3BB3C-8B42-49B2-80EA-82466EAAA46E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C1936A47-8050-40B2-ADFF-2FA89B2B85F1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AE47D-1653-4D1B-BAB9-C9CC3FF99745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586599A4-1D7C-4255-8B94-BEBC4A70A99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AAF50-5A33-4C20-B103-BD11E2B31C05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5C867503-B235-47C8-945A-15D0DCF4A170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3B033-2BD2-4F61-9753-B8227D236461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486A3D60-498F-440B-9966-5EEB25138E8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39C7D-684F-4CAB-BFDF-C64A48995426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3EEF839E-A2E5-47FD-82B4-A8C194E7AD0E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56062-75C7-4F6C-A250-4BE0EC13AA3E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66757969-F407-4926-A953-3EFF52FFD27D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D2506-DDDE-4FFF-BBE3-DB5F132125EC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A123178A-0D51-4C78-9D3B-93B1AF7F7E6E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99EA23-6195-4877-912A-C5B14247FE8F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5D66950A-F0D7-4902-9487-D6FDD3BAE279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A078D-8F7C-47D4-90AC-2AE92239362E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CE57114D-98B7-4E2C-A483-A366B602C655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4A9F6-3B74-4064-A614-EE1F4C00B894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2CC00A26-B4A0-44C3-9367-E3A306D49F61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3171E-6450-45C7-AD99-68B9C4A71FAA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0B6C7B5D-E98F-4110-BCFD-B1CA3E72DA27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0E5A0-0E94-48B1-8D8E-7560D60F7A6E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5E1DFE70-192C-4E9A-AA80-B0D5E630E8AC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1BD3C-1C14-442A-B1AA-60C678C38178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1ADE46C0-9BD7-42CE-A38E-55A314C41297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84360-9A24-4DB7-9739-3969F090470A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D3960267-15A0-4BD6-9B5C-899EDEA487C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E4C00-46F6-496A-BC71-009504948F61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D4625F2E-D897-4A2A-BB7B-44EF509869ED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350EB-98ED-428B-8063-60D74EA31DD4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E879611B-802E-4689-976D-D854AA3B1BFC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63643-EFBD-48A5-B0BE-EB870263206B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8054C1B5-8435-44B4-89AF-9025DB00A454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1B7470-C641-448C-A4B4-45695287575F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91F3A6F2-C6B2-4B92-838B-B646D42DEBEC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D630B-D660-4D2C-9EB4-B67E663F46FD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B099FFF5-D343-46B8-8619-54CB2394B74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14F63-355E-4720-AA5D-49DE1204C3B5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707B3AF2-DD7F-410C-8F04-34ED31DEE003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9AB1A-5CC8-4F0A-B4E3-1658BF0492F0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9F65BE48-F857-4AB5-86D3-930BD200D3F8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29723-25E2-47AA-BD54-6E749B7F8727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9C5E7DA1-1F79-493E-8DC7-C1BDBC58D2C6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8A073-632B-4132-BA4C-0E7D04A70DD6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CB0EE60F-75A7-44D8-9EEC-99A18D395A8D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F4A48-8411-4CBE-9A1E-D18E628C1A78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F6F9CEB8-94F5-4B80-A069-6397D8701478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A54C5-F30C-4063-BE42-219DFBF0F47F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3DFB0FF9-3E26-4B27-A674-222D357207E8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25BA0-14BE-49EC-A5B3-F28FA665179B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3EE9A4F0-F714-4265-B733-55B16858E6A1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59647-D87B-43ED-A0F0-8D861C7AC7DD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5F043E76-342A-43F7-B699-B8CB53708EEF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3778200" y="9429840"/>
            <a:ext cx="2884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41640"/>
                <a:tab algn="l" pos="28558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FF4A5-3AEE-45CA-9DE4-0BB87B2B6093}" type="slidenum">
              <a:rPr b="0" lang="en-GB" sz="11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"/>
          <p:cNvSpPr/>
          <p:nvPr/>
        </p:nvSpPr>
        <p:spPr>
          <a:xfrm>
            <a:off x="1112760" y="744480"/>
            <a:ext cx="44434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5000" bIns="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666720" y="4714920"/>
            <a:ext cx="53323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6080" bIns="46080" anchor="b">
            <a:noAutofit/>
          </a:bodyPr>
          <a:p>
            <a:pPr algn="r">
              <a:tabLst>
                <a:tab algn="l" pos="0"/>
                <a:tab algn="l" pos="458640"/>
                <a:tab algn="l" pos="922320"/>
                <a:tab algn="l" pos="1386000"/>
                <a:tab algn="l" pos="1849320"/>
                <a:tab algn="l" pos="2313000"/>
                <a:tab algn="l" pos="2776680"/>
                <a:tab algn="l" pos="3240000"/>
                <a:tab algn="l" pos="3703680"/>
                <a:tab algn="l" pos="4167360"/>
                <a:tab algn="l" pos="4630680"/>
                <a:tab algn="l" pos="5094360"/>
                <a:tab algn="l" pos="5557680"/>
                <a:tab algn="l" pos="6021360"/>
                <a:tab algn="l" pos="6485040"/>
                <a:tab algn="l" pos="6948360"/>
                <a:tab algn="l" pos="7412040"/>
                <a:tab algn="l" pos="7875720"/>
                <a:tab algn="l" pos="8339040"/>
                <a:tab algn="l" pos="88027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fld id="{86EB228F-833F-44F7-82AA-0DB0EF32025E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79280" y="38890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56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820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1676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7928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820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1676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160B-CC5E-45A7-8F6F-467C37FD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B5D-FE66-4A1C-A567-B0D036AA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89A-A1EE-4364-9EF0-65C98F42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B97-DE5C-4F1B-AE45-6A64F5E5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72F-FBB0-4577-80EF-3F1A120D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780400" cy="55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726-FCD8-4A0D-9330-6165CA4D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E3B-22E9-443C-8EEE-B527BDFB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856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877-CC48-446B-BCBB-115646C6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A4BF-3502-42D6-9109-CE458D95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79280" y="38890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3026-CADC-4103-BCF1-59725F00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856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5D6-D59D-4311-A134-CCE512146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4820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676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7928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4820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676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5B5-E495-406F-BC3A-FBBF654F0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780400" cy="55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856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79280" y="38890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856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4820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16760" y="14842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7928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4820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16760" y="3889080"/>
            <a:ext cx="282708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780400" cy="55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560" y="38890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560" y="1484280"/>
            <a:ext cx="42847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9280" y="3889080"/>
            <a:ext cx="87804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vitae.ac.uk/resources" TargetMode="External"/><Relationship Id="rId3" Type="http://schemas.openxmlformats.org/officeDocument/2006/relationships/hyperlink" Target="http://www.vitae.ac.uk/resourcesconditionsofuse" TargetMode="Externa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F208ED-E481-4BFB-AB36-C9984C5063F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1"/>
          <p:cNvSpPr/>
          <p:nvPr/>
        </p:nvSpPr>
        <p:spPr>
          <a:xfrm>
            <a:off x="1908000" y="6165720"/>
            <a:ext cx="7056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ffective Researcher: Getting Started’ Vitae®, © 2011 The Careers Research and Advisory Centre (CRAC) Limited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ensure that this is the latest version of this document, please go to </a:t>
            </a:r>
            <a:r>
              <a:rPr b="0" lang="en-GB" sz="800" spc="-1" strike="noStrike" u="sng">
                <a:solidFill>
                  <a:srgbClr val="0080ff"/>
                </a:solidFill>
                <a:uFillTx/>
                <a:latin typeface="Arial"/>
                <a:hlinkClick r:id="rId2"/>
              </a:rPr>
              <a:t>www.vitae.ac.uk/resourc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Version 2, 2012. For conditions of use please refer to </a:t>
            </a:r>
            <a:r>
              <a:rPr b="0" lang="en-GB" sz="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vitae.ac.uk/resourcesconditionsofus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2" descr="vitae_logo_resources_small"/>
          <p:cNvPicPr/>
          <p:nvPr/>
        </p:nvPicPr>
        <p:blipFill>
          <a:blip r:embed="rId4"/>
          <a:stretch/>
        </p:blipFill>
        <p:spPr>
          <a:xfrm>
            <a:off x="468360" y="5969160"/>
            <a:ext cx="1368360" cy="841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040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79280" y="1484280"/>
            <a:ext cx="878040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539640" y="1844640"/>
            <a:ext cx="8209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Arial"/>
              </a:rPr>
              <a:t>Effective Researcher: Getting Start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1332000" y="4572000"/>
            <a:ext cx="64008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73160" y="2400480"/>
            <a:ext cx="8785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Identify your preferenc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198360" y="-8424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Looking more closel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Straight Arrow Connector 3"/>
          <p:cNvCxnSpPr/>
          <p:nvPr/>
        </p:nvCxnSpPr>
        <p:spPr>
          <a:xfrm>
            <a:off x="2101680" y="1390680"/>
            <a:ext cx="4609440" cy="21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151" name="TextBox 4"/>
          <p:cNvSpPr/>
          <p:nvPr/>
        </p:nvSpPr>
        <p:spPr>
          <a:xfrm>
            <a:off x="358920" y="806400"/>
            <a:ext cx="175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fer to plan 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k in a simila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ttern each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6754680" y="101592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fer to see how yo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eel on the 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Straight Arrow Connector 6"/>
          <p:cNvCxnSpPr/>
          <p:nvPr/>
        </p:nvCxnSpPr>
        <p:spPr>
          <a:xfrm>
            <a:off x="2101680" y="2251080"/>
            <a:ext cx="4609440" cy="21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154" name="TextBox 7"/>
          <p:cNvSpPr/>
          <p:nvPr/>
        </p:nvSpPr>
        <p:spPr>
          <a:xfrm>
            <a:off x="363240" y="1990800"/>
            <a:ext cx="161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ke to ha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 detailed pl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6813000" y="204156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’t bear plann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Straight Arrow Connector 9"/>
          <p:cNvCxnSpPr/>
          <p:nvPr/>
        </p:nvCxnSpPr>
        <p:spPr>
          <a:xfrm>
            <a:off x="2118960" y="3130560"/>
            <a:ext cx="4609080" cy="21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157" name="TextBox 10"/>
          <p:cNvSpPr/>
          <p:nvPr/>
        </p:nvSpPr>
        <p:spPr>
          <a:xfrm>
            <a:off x="350640" y="280836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t start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raight aw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6863400" y="280836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fer to think fir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n 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" name="Straight Arrow Connector 12"/>
          <p:cNvCxnSpPr/>
          <p:nvPr/>
        </p:nvCxnSpPr>
        <p:spPr>
          <a:xfrm>
            <a:off x="2101680" y="4125960"/>
            <a:ext cx="4609440" cy="21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160" name="TextBox 13"/>
          <p:cNvSpPr/>
          <p:nvPr/>
        </p:nvSpPr>
        <p:spPr>
          <a:xfrm>
            <a:off x="390240" y="3468600"/>
            <a:ext cx="218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 anticip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’ll get m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ctorat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ished on or befo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deadli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6848280" y="3801960"/>
            <a:ext cx="17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 haven’t given 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uch though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>
            <a:off x="2101680" y="5164200"/>
            <a:ext cx="4609440" cy="21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163" name="TextBox 16"/>
          <p:cNvSpPr/>
          <p:nvPr/>
        </p:nvSpPr>
        <p:spPr>
          <a:xfrm>
            <a:off x="6872760" y="490860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’m waiting to s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everyone 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comm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378720" y="4944960"/>
            <a:ext cx="18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’ve alre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ot a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or my referen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685960" y="1628640"/>
            <a:ext cx="3811680" cy="3811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C:\Documents and Settings\jr\Local Settings\Temporary Internet Files\Content.IE5\SXV1FXDT\16760_wpm_lowres[1].png"/>
          <p:cNvPicPr/>
          <p:nvPr/>
        </p:nvPicPr>
        <p:blipFill>
          <a:blip r:embed="rId2"/>
          <a:stretch/>
        </p:blipFill>
        <p:spPr>
          <a:xfrm>
            <a:off x="26859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168" name="Rounded Rectangle 5"/>
          <p:cNvSpPr/>
          <p:nvPr/>
        </p:nvSpPr>
        <p:spPr>
          <a:xfrm>
            <a:off x="4573440" y="2328840"/>
            <a:ext cx="44640" cy="1171440"/>
          </a:xfrm>
          <a:custGeom>
            <a:avLst/>
            <a:gdLst>
              <a:gd name="textAreaLeft" fmla="*/ 2160 w 44640"/>
              <a:gd name="textAreaRight" fmla="*/ 42480 w 4464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62464">
                <a:moveTo>
                  <a:pt x="3600" y="0"/>
                </a:moveTo>
                <a:arcTo wR="3600" hR="3600" stAng="16200000" swAng="-5400000"/>
                <a:lnTo>
                  <a:pt x="0" y="558864"/>
                </a:lnTo>
                <a:arcTo wR="3600" hR="3600" stAng="10800000" swAng="-5400000"/>
                <a:lnTo>
                  <a:pt x="18000" y="562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ounded Rectangle 7"/>
          <p:cNvSpPr/>
          <p:nvPr/>
        </p:nvSpPr>
        <p:spPr>
          <a:xfrm>
            <a:off x="4556160" y="3508200"/>
            <a:ext cx="807840" cy="65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73160" y="2400480"/>
            <a:ext cx="8785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Pick the right resource to help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hree starting point suggestion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A helpful set of resour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Content Placeholder 4" descr="Screen Shot 2012-10-18 at 09.01.00.png"/>
          <p:cNvPicPr/>
          <p:nvPr/>
        </p:nvPicPr>
        <p:blipFill>
          <a:blip r:embed="rId1"/>
          <a:srcRect l="-14743" t="0" r="-14743" b="0"/>
          <a:stretch/>
        </p:blipFill>
        <p:spPr>
          <a:xfrm>
            <a:off x="179280" y="1197000"/>
            <a:ext cx="878040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79280" y="563400"/>
            <a:ext cx="87854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pecific help: managing the information in your docto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Content Placeholder 4" descr="Screen Shot 2013-03-26 at 07.05.40.png"/>
          <p:cNvPicPr/>
          <p:nvPr/>
        </p:nvPicPr>
        <p:blipFill>
          <a:blip r:embed="rId1"/>
          <a:srcRect l="-75909" t="0" r="-75909" b="0"/>
          <a:stretch/>
        </p:blipFill>
        <p:spPr>
          <a:xfrm>
            <a:off x="457200" y="155736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179280" y="563400"/>
            <a:ext cx="87854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A book about the whole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etting a PhD’ by John Fin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6859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4"/>
          <p:cNvSpPr/>
          <p:nvPr/>
        </p:nvSpPr>
        <p:spPr>
          <a:xfrm>
            <a:off x="4573440" y="2328840"/>
            <a:ext cx="44640" cy="1171440"/>
          </a:xfrm>
          <a:custGeom>
            <a:avLst/>
            <a:gdLst>
              <a:gd name="textAreaLeft" fmla="*/ 2160 w 44640"/>
              <a:gd name="textAreaRight" fmla="*/ 42480 w 4464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62464">
                <a:moveTo>
                  <a:pt x="3600" y="0"/>
                </a:moveTo>
                <a:arcTo wR="3600" hR="3600" stAng="16200000" swAng="-5400000"/>
                <a:lnTo>
                  <a:pt x="0" y="558864"/>
                </a:lnTo>
                <a:arcTo wR="3600" hR="3600" stAng="10800000" swAng="-5400000"/>
                <a:lnTo>
                  <a:pt x="18000" y="562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ounded Rectangle 5"/>
          <p:cNvSpPr/>
          <p:nvPr/>
        </p:nvSpPr>
        <p:spPr>
          <a:xfrm rot="1701600">
            <a:off x="4555800" y="3689280"/>
            <a:ext cx="807840" cy="65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604800" y="2400480"/>
            <a:ext cx="76392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Thinking about how you prefer to learn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179280" y="563400"/>
            <a:ext cx="87854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Learning styles: planning to lear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ter Honey and Alan Mumford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olb Learning Cy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132000" y="1484280"/>
            <a:ext cx="31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ge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ving an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ACTIV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83280" y="2708280"/>
            <a:ext cx="3168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ge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viewing an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EFL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32000" y="4292640"/>
            <a:ext cx="3168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ge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cluding from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THEOR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50920" y="2781360"/>
            <a:ext cx="3168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ge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nning the Next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PRAGMAT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476360" y="1844640"/>
            <a:ext cx="1511280" cy="1152720"/>
          </a:xfrm>
          <a:custGeom>
            <a:avLst/>
            <a:gdLst>
              <a:gd name="textAreaLeft" fmla="*/ 869400 w 1511280"/>
              <a:gd name="textAreaRight" fmla="*/ 1275480 w 1511280"/>
              <a:gd name="textAreaTop" fmla="*/ 155160 h 1152720"/>
              <a:gd name="textAreaBottom" fmla="*/ 49356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 rot="10800000">
            <a:off x="6372360" y="4508280"/>
            <a:ext cx="1511280" cy="1152360"/>
          </a:xfrm>
          <a:custGeom>
            <a:avLst/>
            <a:gdLst>
              <a:gd name="textAreaLeft" fmla="*/ 869400 w 1511280"/>
              <a:gd name="textAreaRight" fmla="*/ 1275480 w 1511280"/>
              <a:gd name="textAreaTop" fmla="*/ 155160 h 1152360"/>
              <a:gd name="textAreaBottom" fmla="*/ 49320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5400000">
            <a:off x="6724080" y="1692000"/>
            <a:ext cx="1239840" cy="1655640"/>
          </a:xfrm>
          <a:custGeom>
            <a:avLst/>
            <a:gdLst>
              <a:gd name="textAreaLeft" fmla="*/ 713160 w 1239840"/>
              <a:gd name="textAreaRight" fmla="*/ 1046520 w 1239840"/>
              <a:gd name="textAreaTop" fmla="*/ 223200 h 1655640"/>
              <a:gd name="textAreaBottom" fmla="*/ 70884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16200000">
            <a:off x="1611360" y="4157640"/>
            <a:ext cx="1239840" cy="1656000"/>
          </a:xfrm>
          <a:custGeom>
            <a:avLst/>
            <a:gdLst>
              <a:gd name="textAreaLeft" fmla="*/ 713160 w 1239840"/>
              <a:gd name="textAreaRight" fmla="*/ 1046520 w 1239840"/>
              <a:gd name="textAreaTop" fmla="*/ 223200 h 1656000"/>
              <a:gd name="textAreaBottom" fmla="*/ 70884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is course will focus on yo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684360" y="1484280"/>
            <a:ext cx="7991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ill focus on the following are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ting ready to learn: my preferences and my develop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-management and balance: how do I build on existing skill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 and my skills’ putting together a development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 at the doctoral process in a series of 90 day segments – focusing on the first 90 d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e ‘Activist’ and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684360" y="1484280"/>
            <a:ext cx="7991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ke to get on with practical activities in their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concerned with ‘getting on with thing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er to get on with experiments/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ke discovering new things through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ppy to change their plans as new information emer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e ‘Reflector’ and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684360" y="1484280"/>
            <a:ext cx="7991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er to review things from a d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serves from a number of different persp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ers to observe/think first then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orough collection and analysis of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s into account the past and present in coming to conclu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e ‘Theorist’ and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684360" y="1484280"/>
            <a:ext cx="7991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ers to start with the models or theories of others to form their own 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s, integrates and questions their own perspectives against the theory of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fers step-by-step, logical approaches to the design of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king 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es it make sens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this fit with tha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re the basic assump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e ‘Pragmatist’ and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684360" y="1484280"/>
            <a:ext cx="7991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n to try out ideas, theories and techniques to see if they work in prac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kes a practical approach to research and the design of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ks for practical solutions to research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ten looking for a ‘better way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nts to see practical implications of their 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"/>
          <p:cNvSpPr/>
          <p:nvPr/>
        </p:nvSpPr>
        <p:spPr>
          <a:xfrm>
            <a:off x="179280" y="563400"/>
            <a:ext cx="87854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Research involves all four ways of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do you think your preferences 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 do you think you are likely to have more challeng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will this affect you during your self-directed doctor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6859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202" name="Rounded Rectangle 4"/>
          <p:cNvSpPr/>
          <p:nvPr/>
        </p:nvSpPr>
        <p:spPr>
          <a:xfrm>
            <a:off x="4573440" y="2328840"/>
            <a:ext cx="44640" cy="1171440"/>
          </a:xfrm>
          <a:custGeom>
            <a:avLst/>
            <a:gdLst>
              <a:gd name="textAreaLeft" fmla="*/ 2160 w 44640"/>
              <a:gd name="textAreaRight" fmla="*/ 42480 w 4464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62464">
                <a:moveTo>
                  <a:pt x="3600" y="0"/>
                </a:moveTo>
                <a:arcTo wR="3600" hR="3600" stAng="16200000" swAng="-5400000"/>
                <a:lnTo>
                  <a:pt x="0" y="558864"/>
                </a:lnTo>
                <a:arcTo wR="3600" hR="3600" stAng="10800000" swAng="-5400000"/>
                <a:lnTo>
                  <a:pt x="18000" y="562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ounded Rectangle 5"/>
          <p:cNvSpPr/>
          <p:nvPr/>
        </p:nvSpPr>
        <p:spPr>
          <a:xfrm rot="3578400">
            <a:off x="4400640" y="3876480"/>
            <a:ext cx="807840" cy="64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179280" y="563400"/>
            <a:ext cx="87854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inking a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679320" y="1341360"/>
            <a:ext cx="7991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five years time – what do you want to have achieved and be heading..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179280" y="563400"/>
            <a:ext cx="87854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inking ahe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79320" y="1341360"/>
            <a:ext cx="7991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 you think your doctorate is taking you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think about that 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7003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210" name="Rounded Rectangle 4"/>
          <p:cNvSpPr/>
          <p:nvPr/>
        </p:nvSpPr>
        <p:spPr>
          <a:xfrm>
            <a:off x="4589640" y="2328840"/>
            <a:ext cx="45720" cy="1171440"/>
          </a:xfrm>
          <a:custGeom>
            <a:avLst/>
            <a:gdLst>
              <a:gd name="textAreaLeft" fmla="*/ 2160 w 45720"/>
              <a:gd name="textAreaRight" fmla="*/ 43560 w 4572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49281">
                <a:moveTo>
                  <a:pt x="3600" y="0"/>
                </a:moveTo>
                <a:arcTo wR="3600" hR="3600" stAng="16200000" swAng="-5400000"/>
                <a:lnTo>
                  <a:pt x="0" y="545681"/>
                </a:lnTo>
                <a:arcTo wR="3600" hR="3600" stAng="10800000" swAng="-5400000"/>
                <a:lnTo>
                  <a:pt x="18000" y="5492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ounded Rectangle 5"/>
          <p:cNvSpPr/>
          <p:nvPr/>
        </p:nvSpPr>
        <p:spPr>
          <a:xfrm rot="5400000">
            <a:off x="4192920" y="3872520"/>
            <a:ext cx="809640" cy="65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179280" y="563400"/>
            <a:ext cx="87854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Arial"/>
              </a:rPr>
              <a:t>Identify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ix skills you would like to have developed further during your docto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79280" y="206064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Arial"/>
              </a:rPr>
              <a:t>How are we going to do it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1"/>
          <p:cNvSpPr/>
          <p:nvPr/>
        </p:nvSpPr>
        <p:spPr>
          <a:xfrm>
            <a:off x="179280" y="44280"/>
            <a:ext cx="87854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he Vitae Researcher Development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" descr="http://www.vitae.ac.uk/CMS/files/upload/1.Vitae-Researcher-Development-framework-full-content-graphic-2011.jpg.480731.download"/>
          <p:cNvPicPr/>
          <p:nvPr/>
        </p:nvPicPr>
        <p:blipFill>
          <a:blip r:embed="rId1"/>
          <a:stretch/>
        </p:blipFill>
        <p:spPr>
          <a:xfrm>
            <a:off x="1835280" y="765000"/>
            <a:ext cx="540072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7003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217" name="Rounded Rectangle 4"/>
          <p:cNvSpPr/>
          <p:nvPr/>
        </p:nvSpPr>
        <p:spPr>
          <a:xfrm>
            <a:off x="4599000" y="2328840"/>
            <a:ext cx="44280" cy="1171440"/>
          </a:xfrm>
          <a:custGeom>
            <a:avLst/>
            <a:gdLst>
              <a:gd name="textAreaLeft" fmla="*/ 2160 w 44280"/>
              <a:gd name="textAreaRight" fmla="*/ 42120 w 4428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67000">
                <a:moveTo>
                  <a:pt x="3600" y="0"/>
                </a:moveTo>
                <a:arcTo wR="3600" hR="3600" stAng="16200000" swAng="-5400000"/>
                <a:lnTo>
                  <a:pt x="0" y="563400"/>
                </a:lnTo>
                <a:arcTo wR="3600" hR="3600" stAng="10800000" swAng="-5400000"/>
                <a:lnTo>
                  <a:pt x="18000" y="56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ounded Rectangle 5"/>
          <p:cNvSpPr/>
          <p:nvPr/>
        </p:nvSpPr>
        <p:spPr>
          <a:xfrm rot="6999600">
            <a:off x="4016880" y="3872160"/>
            <a:ext cx="809640" cy="65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179280" y="563400"/>
            <a:ext cx="87854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‘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e seven secrets of highly successful PhD students’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ff Development and Training Unit, Flinders University, Austral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684360" y="1844640"/>
            <a:ext cx="7991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re and maintenance of your supervis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and show as you go; this is show and tell, not hide and se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 realistic: it is not a Nobel Pr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y no to distractions; even the fun ones and the ones you think you must 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’s a job; that means working 9-5 but you get holid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help: you are not an owner-operator single person busin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 can do it.  A PhD is about intelligence and persist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179280" y="18900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A technique for rea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695160" y="907920"/>
            <a:ext cx="79916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 the abstra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 the first 10 lines and the last 10 lin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ablish that the paper is worth re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t the paper away. Write down 3-4 questions that you are hoping the paper will answer for yo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w read the paper with those 3-4 questions in mi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ghlight things that are relevant to the questions you want answer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notes under each question heading (in your own words) once you have finished re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aper is read, evaluated and (potentially?) ready to discuss with your supervis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179280" y="18900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A technique for wri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695160" y="1197000"/>
            <a:ext cx="7991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e-wr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time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 and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writing for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ed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rewr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your hand moving on the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whatever is going on in your he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604800" y="2400480"/>
            <a:ext cx="76392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Arial"/>
              </a:rPr>
              <a:t>Pract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Arial"/>
              </a:rPr>
              <a:t>4 minutes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1"/>
          <p:cNvSpPr/>
          <p:nvPr/>
        </p:nvSpPr>
        <p:spPr>
          <a:xfrm>
            <a:off x="179280" y="18900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A technique for wri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695160" y="1197000"/>
            <a:ext cx="7991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 and pa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y writing for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ed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rewri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ep your hand moving on the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whatever is going on in your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English is not your first language this may be a good opportunity to write in your first languag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604800" y="2400480"/>
            <a:ext cx="76392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Are you clear about what is expected of you?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Have a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Content Placeholder 3" descr="Screen Shot 2012-10-18 at 09.43.17.png"/>
          <p:cNvPicPr/>
          <p:nvPr/>
        </p:nvPicPr>
        <p:blipFill>
          <a:blip r:embed="rId1"/>
          <a:srcRect l="-7904" t="0" r="-7904" b="0"/>
          <a:stretch/>
        </p:blipFill>
        <p:spPr>
          <a:xfrm>
            <a:off x="179280" y="1268280"/>
            <a:ext cx="8780400" cy="460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7003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4"/>
          <p:cNvSpPr/>
          <p:nvPr/>
        </p:nvSpPr>
        <p:spPr>
          <a:xfrm>
            <a:off x="4572000" y="2328840"/>
            <a:ext cx="44280" cy="1171440"/>
          </a:xfrm>
          <a:custGeom>
            <a:avLst/>
            <a:gdLst>
              <a:gd name="textAreaLeft" fmla="*/ 2160 w 44280"/>
              <a:gd name="textAreaRight" fmla="*/ 42120 w 4428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67000">
                <a:moveTo>
                  <a:pt x="3600" y="0"/>
                </a:moveTo>
                <a:arcTo wR="3600" hR="3600" stAng="16200000" swAng="-5400000"/>
                <a:lnTo>
                  <a:pt x="0" y="563400"/>
                </a:lnTo>
                <a:arcTo wR="3600" hR="3600" stAng="10800000" swAng="-5400000"/>
                <a:lnTo>
                  <a:pt x="18000" y="56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ounded Rectangle 5"/>
          <p:cNvSpPr/>
          <p:nvPr/>
        </p:nvSpPr>
        <p:spPr>
          <a:xfrm rot="8741400">
            <a:off x="3800520" y="3789000"/>
            <a:ext cx="807840" cy="65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A note about not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684360" y="1484280"/>
            <a:ext cx="7991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never travel without my diary. One should always have something sensational to read on the trai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car Wil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179280" y="18900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inking about time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695160" y="1197000"/>
            <a:ext cx="7991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personal time related ques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my most productive time of da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do I have the most energ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do I have the least energ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my personal approach to e-mail…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long do I need to take for lun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oes a good working day look like for 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 I maintain some balance in my lif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my own personal time management challenge to be aware o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79280" y="563400"/>
            <a:ext cx="878544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A different perspective on how your doctorate fits into your lif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F:\Vitae-Balanced-Researcher-June-2008_Page_01.jpg"/>
          <p:cNvPicPr/>
          <p:nvPr/>
        </p:nvPicPr>
        <p:blipFill>
          <a:blip r:embed="rId1"/>
          <a:stretch/>
        </p:blipFill>
        <p:spPr>
          <a:xfrm>
            <a:off x="3059280" y="2060640"/>
            <a:ext cx="2520720" cy="35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7003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241" name="Rounded Rectangle 4"/>
          <p:cNvSpPr/>
          <p:nvPr/>
        </p:nvSpPr>
        <p:spPr>
          <a:xfrm>
            <a:off x="4572000" y="2328840"/>
            <a:ext cx="44280" cy="1171440"/>
          </a:xfrm>
          <a:custGeom>
            <a:avLst/>
            <a:gdLst>
              <a:gd name="textAreaLeft" fmla="*/ 2160 w 44280"/>
              <a:gd name="textAreaRight" fmla="*/ 42120 w 4428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67000">
                <a:moveTo>
                  <a:pt x="3600" y="0"/>
                </a:moveTo>
                <a:arcTo wR="3600" hR="3600" stAng="16200000" swAng="-5400000"/>
                <a:lnTo>
                  <a:pt x="0" y="563400"/>
                </a:lnTo>
                <a:arcTo wR="3600" hR="3600" stAng="10800000" swAng="-5400000"/>
                <a:lnTo>
                  <a:pt x="18000" y="56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ounded Rectangle 6"/>
          <p:cNvSpPr/>
          <p:nvPr/>
        </p:nvSpPr>
        <p:spPr>
          <a:xfrm>
            <a:off x="3780000" y="3508200"/>
            <a:ext cx="807840" cy="65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68360" y="189000"/>
            <a:ext cx="8785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e nine thing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506520" y="1200240"/>
            <a:ext cx="7991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am or 9p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0 minutes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can a researcher do in 9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ut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ny Schwarz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90-Minute Plan for Personal Effec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0 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7003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247" name="Rounded Rectangle 4"/>
          <p:cNvSpPr/>
          <p:nvPr/>
        </p:nvSpPr>
        <p:spPr>
          <a:xfrm>
            <a:off x="4572000" y="2328840"/>
            <a:ext cx="44280" cy="1171440"/>
          </a:xfrm>
          <a:custGeom>
            <a:avLst/>
            <a:gdLst>
              <a:gd name="textAreaLeft" fmla="*/ 2160 w 44280"/>
              <a:gd name="textAreaRight" fmla="*/ 42120 w 4428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67000">
                <a:moveTo>
                  <a:pt x="3600" y="0"/>
                </a:moveTo>
                <a:arcTo wR="3600" hR="3600" stAng="16200000" swAng="-5400000"/>
                <a:lnTo>
                  <a:pt x="0" y="563400"/>
                </a:lnTo>
                <a:arcTo wR="3600" hR="3600" stAng="10800000" swAng="-5400000"/>
                <a:lnTo>
                  <a:pt x="18000" y="56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ounded Rectangle 5"/>
          <p:cNvSpPr/>
          <p:nvPr/>
        </p:nvSpPr>
        <p:spPr>
          <a:xfrm rot="1720800">
            <a:off x="3796920" y="3317760"/>
            <a:ext cx="808200" cy="65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604800" y="2400480"/>
            <a:ext cx="76392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8000"/>
                </a:solidFill>
                <a:latin typeface="Arial"/>
              </a:rPr>
              <a:t>Superviso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ore than a 10 letter word….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179280" y="18900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Three ques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324000" y="1197000"/>
            <a:ext cx="7991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s a supervisor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role do two or more supervisors play in your doctor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are you going to work toge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1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7003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254" name="Rounded Rectangle 4"/>
          <p:cNvSpPr/>
          <p:nvPr/>
        </p:nvSpPr>
        <p:spPr>
          <a:xfrm>
            <a:off x="4572000" y="2328840"/>
            <a:ext cx="44280" cy="1171440"/>
          </a:xfrm>
          <a:custGeom>
            <a:avLst/>
            <a:gdLst>
              <a:gd name="textAreaLeft" fmla="*/ 2160 w 44280"/>
              <a:gd name="textAreaRight" fmla="*/ 42120 w 4428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67000">
                <a:moveTo>
                  <a:pt x="3600" y="0"/>
                </a:moveTo>
                <a:arcTo wR="3600" hR="3600" stAng="16200000" swAng="-5400000"/>
                <a:lnTo>
                  <a:pt x="0" y="563400"/>
                </a:lnTo>
                <a:arcTo wR="3600" hR="3600" stAng="10800000" swAng="-5400000"/>
                <a:lnTo>
                  <a:pt x="18000" y="56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ounded Rectangle 5"/>
          <p:cNvSpPr/>
          <p:nvPr/>
        </p:nvSpPr>
        <p:spPr>
          <a:xfrm rot="3540600">
            <a:off x="3971160" y="3111480"/>
            <a:ext cx="808200" cy="65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604800" y="2400480"/>
            <a:ext cx="76392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8000"/>
                </a:solidFill>
                <a:latin typeface="Arial"/>
              </a:rPr>
              <a:t>Stakehold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179280" y="6922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Arial"/>
              </a:rPr>
              <a:t>Who has a stake in your doctorate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06360" y="3068640"/>
            <a:ext cx="8785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… </a:t>
            </a:r>
            <a:r>
              <a:rPr b="1" lang="en-GB" sz="4800" spc="-1" strike="noStrike">
                <a:solidFill>
                  <a:srgbClr val="008000"/>
                </a:solidFill>
                <a:latin typeface="Arial"/>
              </a:rPr>
              <a:t>and what are their different perspectives?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206280" y="24922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Arial"/>
              </a:rPr>
              <a:t>The session has a focus on the ticking clock…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7003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261" name="Rounded Rectangle 4"/>
          <p:cNvSpPr/>
          <p:nvPr/>
        </p:nvSpPr>
        <p:spPr>
          <a:xfrm>
            <a:off x="4572000" y="2328840"/>
            <a:ext cx="44280" cy="1171440"/>
          </a:xfrm>
          <a:custGeom>
            <a:avLst/>
            <a:gdLst>
              <a:gd name="textAreaLeft" fmla="*/ 2160 w 44280"/>
              <a:gd name="textAreaRight" fmla="*/ 42120 w 4428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67000">
                <a:moveTo>
                  <a:pt x="3600" y="0"/>
                </a:moveTo>
                <a:arcTo wR="3600" hR="3600" stAng="16200000" swAng="-5400000"/>
                <a:lnTo>
                  <a:pt x="0" y="563400"/>
                </a:lnTo>
                <a:arcTo wR="3600" hR="3600" stAng="10800000" swAng="-5400000"/>
                <a:lnTo>
                  <a:pt x="18000" y="56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179280" y="18900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ACCOMPLISHED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Content Placeholder 2"/>
          <p:cNvSpPr/>
          <p:nvPr/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nking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2 x 90 days = 3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will you have at the end of your doctorat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6859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266" name="Rounded Rectangle 4"/>
          <p:cNvSpPr/>
          <p:nvPr/>
        </p:nvSpPr>
        <p:spPr>
          <a:xfrm>
            <a:off x="4572000" y="2276640"/>
            <a:ext cx="44280" cy="1171440"/>
          </a:xfrm>
          <a:custGeom>
            <a:avLst/>
            <a:gdLst>
              <a:gd name="textAreaLeft" fmla="*/ 2160 w 44280"/>
              <a:gd name="textAreaRight" fmla="*/ 42120 w 4428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67000">
                <a:moveTo>
                  <a:pt x="3600" y="0"/>
                </a:moveTo>
                <a:arcTo wR="3600" hR="3600" stAng="16200000" swAng="-5400000"/>
                <a:lnTo>
                  <a:pt x="0" y="563400"/>
                </a:lnTo>
                <a:arcTo wR="3600" hR="3600" stAng="10800000" swAng="-5400000"/>
                <a:lnTo>
                  <a:pt x="18000" y="56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ounded Rectangle 5"/>
          <p:cNvSpPr/>
          <p:nvPr/>
        </p:nvSpPr>
        <p:spPr>
          <a:xfrm rot="18229800">
            <a:off x="4440240" y="3101760"/>
            <a:ext cx="807840" cy="65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604800" y="2400480"/>
            <a:ext cx="763920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8000"/>
                </a:solidFill>
                <a:latin typeface="Arial"/>
              </a:rPr>
              <a:t>It is xxxxxx 201X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Content Placeholder 3"/>
          <p:cNvSpPr/>
          <p:nvPr/>
        </p:nvSpPr>
        <p:spPr>
          <a:xfrm>
            <a:off x="1371600" y="361008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do you want to accomplish in the next 90 days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395280" y="2276640"/>
            <a:ext cx="8785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Arial"/>
              </a:rPr>
              <a:t>Postcard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8000"/>
                </a:solidFill>
                <a:latin typeface="Arial"/>
              </a:rPr>
              <a:t>Give yourself some direction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1: Introductions and thinking ahea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6859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9"/>
          <p:cNvSpPr/>
          <p:nvPr/>
        </p:nvSpPr>
        <p:spPr>
          <a:xfrm>
            <a:off x="4572000" y="2276640"/>
            <a:ext cx="44280" cy="1171440"/>
          </a:xfrm>
          <a:custGeom>
            <a:avLst/>
            <a:gdLst>
              <a:gd name="textAreaLeft" fmla="*/ 2160 w 44280"/>
              <a:gd name="textAreaRight" fmla="*/ 42120 w 4428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67000">
                <a:moveTo>
                  <a:pt x="3600" y="0"/>
                </a:moveTo>
                <a:arcTo wR="3600" hR="3600" stAng="16200000" swAng="-5400000"/>
                <a:lnTo>
                  <a:pt x="0" y="563400"/>
                </a:lnTo>
                <a:arcTo wR="3600" hR="3600" stAng="10800000" swAng="-5400000"/>
                <a:lnTo>
                  <a:pt x="18000" y="5670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 rot="18229800">
            <a:off x="4440240" y="3101760"/>
            <a:ext cx="807840" cy="65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oups of 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roduce yourselves to each ot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iscuss: What is your major goal in the first 90 days of your docto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(90 days from now is xxxxxx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Why think in 90 day seg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84360" y="1484280"/>
            <a:ext cx="79912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ill focus on the following are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 years comprises 12 x 90 day segments – each helping you to move towards the overall goal of your docto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helps to ‘chunk’ your doctorate – whether you are doing this full time or part-time it helps to create a high level plan in a smaller number of achievable chu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90 day period allows you flexibility to make progress at a steady rate whilst giving you regular interim deadli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179280" y="274680"/>
            <a:ext cx="878544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3" descr="C:\Documents and Settings\jr\Local Settings\Temporary Internet Files\Content.IE5\SXV1FXDT\16760_wpm_lowres[1].png"/>
          <p:cNvPicPr/>
          <p:nvPr/>
        </p:nvPicPr>
        <p:blipFill>
          <a:blip r:embed="rId1"/>
          <a:stretch/>
        </p:blipFill>
        <p:spPr>
          <a:xfrm>
            <a:off x="2685960" y="1628640"/>
            <a:ext cx="3811680" cy="3811680"/>
          </a:xfrm>
          <a:prstGeom prst="rect">
            <a:avLst/>
          </a:prstGeom>
          <a:ln w="0">
            <a:noFill/>
          </a:ln>
        </p:spPr>
      </p:pic>
      <p:sp>
        <p:nvSpPr>
          <p:cNvPr id="146" name="Rounded Rectangle 4"/>
          <p:cNvSpPr/>
          <p:nvPr/>
        </p:nvSpPr>
        <p:spPr>
          <a:xfrm>
            <a:off x="4573440" y="2328840"/>
            <a:ext cx="44640" cy="1171440"/>
          </a:xfrm>
          <a:custGeom>
            <a:avLst/>
            <a:gdLst>
              <a:gd name="textAreaLeft" fmla="*/ 2160 w 44640"/>
              <a:gd name="textAreaRight" fmla="*/ 42480 w 44640"/>
              <a:gd name="textAreaTop" fmla="*/ 2160 h 1171440"/>
              <a:gd name="textAreaBottom" fmla="*/ 1169280 h 1171440"/>
            </a:gdLst>
            <a:ahLst/>
            <a:rect l="textAreaLeft" t="textAreaTop" r="textAreaRight" b="textAreaBottom"/>
            <a:pathLst>
              <a:path w="21600" h="562464">
                <a:moveTo>
                  <a:pt x="3600" y="0"/>
                </a:moveTo>
                <a:arcTo wR="3600" hR="3600" stAng="16200000" swAng="-5400000"/>
                <a:lnTo>
                  <a:pt x="0" y="558864"/>
                </a:lnTo>
                <a:arcTo wR="3600" hR="3600" stAng="10800000" swAng="-5400000"/>
                <a:lnTo>
                  <a:pt x="18000" y="5624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ounded Rectangle 6"/>
          <p:cNvSpPr/>
          <p:nvPr/>
        </p:nvSpPr>
        <p:spPr>
          <a:xfrm rot="19660200">
            <a:off x="4525920" y="3296880"/>
            <a:ext cx="809640" cy="651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1:14:31Z</dcterms:created>
  <dc:creator>Dr Dave</dc:creator>
  <dc:description/>
  <dc:language>en-US</dc:language>
  <cp:lastModifiedBy>Jonathan Roberts Vitae</cp:lastModifiedBy>
  <cp:lastPrinted>2013-05-31T12:57:22Z</cp:lastPrinted>
  <dcterms:modified xsi:type="dcterms:W3CDTF">2013-07-09T09:31:22Z</dcterms:modified>
  <cp:revision>90</cp:revision>
  <dc:subject/>
  <dc:title>Slide 1</dc:title>
</cp:coreProperties>
</file>