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0"/>
            <a:ext cx="289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1"/>
          </p:nvPr>
        </p:nvSpPr>
        <p:spPr>
          <a:xfrm>
            <a:off x="3777840" y="-360"/>
            <a:ext cx="2884680" cy="490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6480" cy="371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920" rIns="889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0" y="9426600"/>
            <a:ext cx="289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14240"/>
                <a:tab algn="l" pos="1428840"/>
                <a:tab algn="l" pos="2144880"/>
                <a:tab algn="l" pos="28591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14240"/>
                <a:tab algn="l" pos="1428840"/>
                <a:tab algn="l" pos="2144880"/>
                <a:tab algn="l" pos="28591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E7E0F-5BF9-4B21-8AAF-5C1C3CD42E9B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B90D9-417A-4AD4-A7CE-7187CC2DD4C7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FC888BA6-D371-499E-A6FF-0DD1BCFD436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AF84F-E008-452C-9137-A13FD32718B5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2D25282D-ED37-443C-A364-B79FE6BF1A78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35089-E281-4853-97D6-8027B54F566F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829C5993-F477-4AA7-9106-9E3CDBC897F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5F0C8-33D0-436D-ABF0-D643646B3A87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EDC2A6BB-40E7-4915-8764-0B2690FD652A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CCEAF-937D-47B8-ADB9-6EFBB2B25DEE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CA220728-EB77-4976-803B-9C4D0AE71052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6480" cy="37180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7040"/>
                <a:tab algn="l" pos="2143080"/>
                <a:tab algn="l" pos="2857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0CDFE-52B7-499C-A4FE-5AFF88320A86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349FE-4C20-46CA-B88B-6BFF6525B57A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B0532FB1-1B26-4E2B-8C09-72F96435A9B4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5FE75-8362-4351-85DB-F70260176094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104C2874-FFDE-421C-92D6-DA3FD897895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822D8-22F1-4721-A3FB-640BF8BAAF8B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00230582-647F-4333-BBC0-BA2DFC46D7CD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157F1-EBEE-4B04-854E-3BC5BE800847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DAB61A66-557E-42EC-8B5D-93EF30A657D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E4999-5DEB-4EB0-ABEC-C5287B0C5452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4078ABA5-8D28-4104-96EB-539442C219DD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CEC74-5C6F-49BE-834D-7A78E358C16D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477E15B9-CF7C-4F16-804F-1B9CD3F73B4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767DA-A5A9-401B-8F68-17B9BEF2CEC5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87E00821-5FEA-4942-AA05-DFA6F176B2B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C9619-7E90-4BD7-8D96-A92EE2871AFD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6C2D2B4F-007B-457B-918F-4E68B418E26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B4A57-3D44-4797-AB77-40A42E8AA32C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E30D3487-BEA0-4DB9-B2B0-90F7BBC2A90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725D9-1345-4A9B-86D4-CEF3B874D4F1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F6658805-FC85-41F3-8F4C-8E0566FE1B68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EA113-F93D-40F9-A3CF-7BC321D551B8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19528D31-0555-4716-8F5E-0D6C7204EB6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74B1A-4B28-4FAB-985E-13BDAA37DB62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4F5CADA0-7E0F-429C-91B4-06F678F8415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8B129-1536-47EA-90DD-4B864E807935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3887CB26-BE69-447F-8BD8-DB9B8E26EAA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12274-6060-437D-8D59-E5ABDE37DA0E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B895B054-F7D6-4F5A-81AD-2A8468C0211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CC09C-4046-4571-95FB-D97EE73EDF38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7AE24B3A-2016-4108-AA73-4CC2D959D98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18575-2928-4418-8FEB-B16D42E3A136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E5A123AE-E0CD-49B7-A5FC-32F0608EFD50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3CA7E-922E-490E-A850-D568F12004C9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FB24DF7C-64B7-46E5-A7A5-CE931961340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8D097-8B2F-473A-BC7A-8A64716553EB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757E612F-5040-4D04-A221-A79BCCD9D23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820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676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928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820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1676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78040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820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676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928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820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676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78040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vitae.ac.uk/resources" TargetMode="External"/><Relationship Id="rId3" Type="http://schemas.openxmlformats.org/officeDocument/2006/relationships/hyperlink" Target="http://www.vitae.ac.uk/resourcesconditionsofuse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1"/>
          <p:cNvSpPr/>
          <p:nvPr/>
        </p:nvSpPr>
        <p:spPr>
          <a:xfrm>
            <a:off x="1908000" y="6165720"/>
            <a:ext cx="7056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Researcher: Effective Progress’ Vitae®, © 2011 The Careers Research and Advisory Centre (CRAC) Limit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ensure that this is the latest version of this document, please go to </a:t>
            </a:r>
            <a:r>
              <a:rPr b="0" lang="en-GB" sz="8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www.vitae.ac.uk/resourc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ersion 1 October 2011. For conditions of use please refer to </a:t>
            </a:r>
            <a:r>
              <a:rPr b="0" lang="en-GB" sz="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vitae.ac.uk/resourcesconditionsofu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12" descr="vitae_logo_resources_small"/>
          <p:cNvPicPr/>
          <p:nvPr/>
        </p:nvPicPr>
        <p:blipFill>
          <a:blip r:embed="rId4"/>
          <a:stretch/>
        </p:blipFill>
        <p:spPr>
          <a:xfrm>
            <a:off x="468360" y="5969160"/>
            <a:ext cx="136836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39640" y="1844640"/>
            <a:ext cx="8209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Effective Researcher: Effective Progres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332000" y="4572000"/>
            <a:ext cx="64008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wo the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900000" y="1484280"/>
            <a:ext cx="7417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ternational law is incapable of effectively addressing cases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failur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, such that any apparent application of it is merely politics using the vocabulary of law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at is ‘State Failure’ in legal ter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Can international law address matters of statehood? [Beware the second hypothesis...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wo the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755640" y="1484280"/>
            <a:ext cx="76327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your hypothesis as best you 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your groups - take it in turns to explain the thesis of your Thesis (and any  research Qs) to the other people (listen, as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 your thoughts and make notes about your ow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Fitting the pieces togeth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79280" y="1484280"/>
            <a:ext cx="8785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2268360" y="1413000"/>
            <a:ext cx="4493880" cy="4512600"/>
            <a:chOff x="2268360" y="1413000"/>
            <a:chExt cx="4493880" cy="4512600"/>
          </a:xfrm>
        </p:grpSpPr>
        <p:sp>
          <p:nvSpPr>
            <p:cNvPr id="114" name="AutoShape 4"/>
            <p:cNvSpPr/>
            <p:nvPr/>
          </p:nvSpPr>
          <p:spPr>
            <a:xfrm>
              <a:off x="4456800" y="1413000"/>
              <a:ext cx="1766160" cy="2397600"/>
            </a:xfrm>
            <a:custGeom>
              <a:avLst/>
              <a:gdLst>
                <a:gd name="textAreaLeft" fmla="*/ 185400 w 1766160"/>
                <a:gd name="textAreaRight" fmla="*/ 1566360 w 1766160"/>
                <a:gd name="textAreaTop" fmla="*/ 856800 h 2397600"/>
                <a:gd name="textAreaBottom" fmla="*/ 224532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5"/>
            <p:cNvSpPr/>
            <p:nvPr/>
          </p:nvSpPr>
          <p:spPr>
            <a:xfrm>
              <a:off x="3942720" y="3160080"/>
              <a:ext cx="2819520" cy="2183400"/>
            </a:xfrm>
            <a:custGeom>
              <a:avLst/>
              <a:gdLst>
                <a:gd name="textAreaLeft" fmla="*/ 704520 w 2819520"/>
                <a:gd name="textAreaRight" fmla="*/ 2112120 w 2819520"/>
                <a:gd name="textAreaTop" fmla="*/ 680760 h 2183400"/>
                <a:gd name="textAreaBottom" fmla="*/ 2066040 h 218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2850840" y="3133080"/>
              <a:ext cx="1699560" cy="2792520"/>
            </a:xfrm>
            <a:custGeom>
              <a:avLst/>
              <a:gdLst>
                <a:gd name="textAreaLeft" fmla="*/ 163440 w 1699560"/>
                <a:gd name="textAreaRight" fmla="*/ 1590120 w 1699560"/>
                <a:gd name="textAreaTop" fmla="*/ 731520 h 2792520"/>
                <a:gd name="textAreaBottom" fmla="*/ 2066040 h 279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2268360" y="2138040"/>
              <a:ext cx="2854800" cy="1664640"/>
            </a:xfrm>
            <a:custGeom>
              <a:avLst/>
              <a:gdLst>
                <a:gd name="textAreaLeft" fmla="*/ 804240 w 2854800"/>
                <a:gd name="textAreaRight" fmla="*/ 2131200 w 2854800"/>
                <a:gd name="textAreaTop" fmla="*/ 198360 h 1664640"/>
                <a:gd name="textAreaBottom" fmla="*/ 1506240 h 166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wo the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042920" y="1628640"/>
            <a:ext cx="705816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ill you actually go about supporting your (hypo)th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ill you get 3-4 (5-6) years of work into 80-100,000* words (160-225 pages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ill it meet the assessment criter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at are the assessmen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eria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PhD assessment criter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1356840"/>
            <a:ext cx="89647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reation and interpre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new knowledge ...of a quality to satisfy peer review, extend the forefront of the discipline, and meri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ystematic acquisition and understand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a substantial body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eneral ability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ceptualise, design and impl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project for the generation of new knowledge and to adjust the project design in the light of unforesee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rom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ramework for HE Quals in E, W &amp; N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wo the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971640" y="1628640"/>
            <a:ext cx="799308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ill you actually go about supporting your (hypo)th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ill you get 3-4 (5-6) years of work into 80-100,000* words (160-225 pages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ill it meet the assessment criter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at are the assessment criteria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wo the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971640" y="1484280"/>
            <a:ext cx="7993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your groups, discu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building blocks of a Th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ly or in pai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il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ructu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08000" y="274680"/>
            <a:ext cx="89280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anaging your doctoral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900000" y="14842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doctorate is unique, but what about the pro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ject: Is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every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ou are doing taking you towards end of the pro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is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you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? (And when was the last time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you revisit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your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superviso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lance loo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as the last time you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wrote some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is in your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et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826920" y="1484280"/>
            <a:ext cx="8137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everything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are doing taking you towards the end of the pro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 you do each day that is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really go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gets left each day that you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really shoul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but are not do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are the areas that you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waste your ti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1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Plan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5564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here is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 Unicode MS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pl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did you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las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ow are you doing at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 Unicode MS"/>
              </a:rPr>
              <a:t>manag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yourself? And your supervisor(s)? And your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does the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bal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your life come f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Intended learning out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4360" y="148428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clarify where you are in the doctor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som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ear doctorate CSF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, clarify, and express your research hypothesis (and ques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what your Thesis should look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 the doctoral assess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the process of managing tha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your own individual plan for the year a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upervisory 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79280" y="1440000"/>
            <a:ext cx="88203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does your supervisory balance loo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man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our supervisor or your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relationshi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? Do they manage yo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id you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your last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supervisory mee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uld you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get mo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f your next supervisory meet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79280" y="1484280"/>
            <a:ext cx="8785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did you last write someth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id you write? What was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go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ut having don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re anything going round in your head that you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shoul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writ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are the opportunities to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write something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morr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upport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79280" y="1484280"/>
            <a:ext cx="8785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is in your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supp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net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they know they are? And what you expect of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el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uld be in your support network? (Categories of people; maybe actual peop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se help could you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real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at the mo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What n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79280" y="1484280"/>
            <a:ext cx="878544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here are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 Unicode MS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on the mountain? (postca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are the CSFs for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 Unicode MS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to complete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 Unicode MS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(second year of) doctoral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 Unicode MS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thesis? And research ques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ow will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 Unicode MS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Thesis loo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ow can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 Unicode MS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manage 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 Unicode MS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octoral pro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 to make -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and agre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a pl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501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501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8501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freephotos_se_soft_mountain.jpg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3780000" y="189000"/>
            <a:ext cx="5184720" cy="22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ver measure the height of a mountain until you have reached the top. Then you will see how low it w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Hammerskjö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396120"/>
            <a:ext cx="15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gnus Rosendah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FreePhotos.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ookaboo_com_everest.jpg"/>
          <p:cNvPicPr/>
          <p:nvPr/>
        </p:nvPicPr>
        <p:blipFill>
          <a:blip r:embed="rId1"/>
          <a:stretch/>
        </p:blipFill>
        <p:spPr>
          <a:xfrm>
            <a:off x="-1332000" y="0"/>
            <a:ext cx="10763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0" y="189000"/>
            <a:ext cx="597708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ople do not just wander around and then find themselves at the top of Mount Ev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ig Zig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809760" y="6396120"/>
            <a:ext cx="220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aniel from English Wikipe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ookaboo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Climbing the doctoral moun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11280" y="148428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are you on the moun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 few minutes to write / draw your thoughts on your progress to date (postca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are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 few minutes to discuss this in your small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are we a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compare our thoughts (and the pic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e view from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900000" y="14842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723600"/>
                <a:tab algn="l" pos="10172880"/>
                <a:tab algn="l" pos="10174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rspectives on the critical success factors for a doctorate - and especially the path of the second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723600"/>
                <a:tab algn="l" pos="1017288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723600"/>
                <a:tab algn="l" pos="1017288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ew supervisors, from different institutions and discip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723600"/>
                <a:tab algn="l" pos="1017288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ear postgraduate resear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CSFs: from supervis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826920" y="1484280"/>
            <a:ext cx="7632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ac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ad in an organised way (e.g. goal of 1-2 articles per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Start writing as early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fine your own standards for your work / your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fensibility starts in the 2nd year - be clear about defending each sentence in what you 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s lack of time the issue - or is it lack of motiv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Confid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Have ambition to give you focus and 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Be confident in your work and in your competence as a resear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Be clear that you will finish, you will grad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CSFs: from doc-researc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14200" y="1341360"/>
            <a:ext cx="87854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c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Stay focussed! Don’t prevaricate – just do i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Keep Perspective. Work to live, don’t live to wor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It’s a rollercoaster – recognise the ups and downs (good &amp; bad day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Be patient.  Don’t panic. Establish and maintain a good relationship with your supervisors (and manage the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n’t relax.  Try harder than before. Start writing. Innov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Be honest with yourself, and work on what you have neglec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actic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Summarise the progress you have made each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Keep all papers / data (and everything else) well organi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Maintain a 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Start writing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o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. Practice writing and get feedback on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Read continuously; maintain a current literature review (use Endnote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Use the people around you (including other academ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wo the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755640" y="1484280"/>
            <a:ext cx="7704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thesis of your Th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what is / are the research question/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y is it interesting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y is it important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at sort of answers might it produce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ere is it taking you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wo the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755640" y="1484280"/>
            <a:ext cx="7416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a thesis of a Th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It is a hypothesis – a proposition that you will attempt to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It needs to be just one hypothesis – beware of nested or multiple hypo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It needs to be stated positively – e.g. 'X causes Y under conditions A &amp; B'; not 'A consideration of X in relation to Y'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1:14:31Z</dcterms:created>
  <dc:creator>Dr Dave</dc:creator>
  <dc:description/>
  <dc:language>en-US</dc:language>
  <cp:lastModifiedBy>Jonathan Roberts Vitae</cp:lastModifiedBy>
  <cp:lastPrinted>2013-05-31T12:57:22Z</cp:lastPrinted>
  <dcterms:modified xsi:type="dcterms:W3CDTF">2013-05-31T13:01:55Z</dcterms:modified>
  <cp:revision>78</cp:revision>
  <dc:subject/>
  <dc:title>Slide 1</dc:title>
</cp:coreProperties>
</file>